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DC3-B04A-4E0E-996D-12C8EC73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591-4503-47FE-90C6-5D9601E0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5BB-D050-4BB2-B96B-27F10D5F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33A-F92D-438B-AF3F-D977AE89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E21C-7280-42A9-8829-505DDD46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ECC6-2F97-4CCE-AD92-04B934A9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ECA3-B37B-45EF-B06B-2EF0882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58A2-5E3D-4EF3-A32D-A7403DCE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1153-AA2D-4781-BC78-DBC317DA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6211-FDF3-4B98-BAB1-3C31ECAB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AA69-9F70-4440-BA22-6A0C7F4A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085-09B6-48B9-B9D1-A7BB8D88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BDD7-336A-47AF-8FF7-9441C68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20D9-B98F-4FAA-AF2B-74A8248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4F79-B489-4625-9C66-578DFE22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F19E-3737-4C92-B079-5E6F0D0B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2704-1CB5-4BE8-B08C-F822F293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E4B-9DE3-4AB0-BB81-38EA8ECF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0CD-334E-4601-9264-C604F3E7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B2D-4636-4FB8-A2CD-78D52135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78B-A192-4EC6-8C59-37178F28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60A-8DC8-41FD-8C43-A52C55C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AB0-9B8B-42E7-81F9-6E5DD465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444-BCBD-4F46-BAA7-148454E0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68D0-3FB8-433F-8770-5F15F359EE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4BCC-7A9C-4112-BE3B-1BBCC832D7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57720" y="1356840"/>
            <a:ext cx="527184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орема Пифагор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 её доказат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4714920" y="578628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от имени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 студент 142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айкин 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1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9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evklid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algebra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04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4" descr="geometria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1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600"/>
                            </p:stCondLst>
                            <p:childTnLst>
                              <p:par>
                                <p:cTn id="4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24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2920"/>
                            </p:stCondLst>
                            <p:childTnLst>
                              <p:par>
                                <p:cTn id="4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342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540"/>
                            </p:stCondLst>
                            <p:childTnLst>
                              <p:par>
                                <p:cTn id="4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604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828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944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360"/>
                            </p:stCondLst>
                            <p:childTnLst>
                              <p:par>
                                <p:cTn id="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156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2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ru-RU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Object 8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Picture 9" descr="evklid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evklid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Лёха</cp:lastModifiedBy>
  <dcterms:modified xsi:type="dcterms:W3CDTF">2010-06-06T16:49:04Z</dcterms:modified>
  <cp:revision>72</cp:revision>
  <dc:subject/>
  <dc:title>Теорема Пифагора</dc:title>
</cp:coreProperties>
</file>